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82240" y="694800"/>
            <a:ext cx="46436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2"/>
          </p:nvPr>
        </p:nvSpPr>
        <p:spPr>
          <a:xfrm>
            <a:off x="-3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3"/>
          </p:nvPr>
        </p:nvSpPr>
        <p:spPr>
          <a:xfrm>
            <a:off x="396360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70A94A-0930-42CF-A483-D66F3F525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43640" cy="3481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Source1: This presentation, Machine #?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Screens: Output to Left and Right Main Screens, Left Confidence Screen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Notes: This presentation will be controlled by Ed Doller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Source2: Live video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Screens: Main Middle Screen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Source3: This presentation, Machine #?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Screens: Right Confidence Screen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hitney Medium"/>
              </a:rPr>
              <a:t>Notes: same as Source1 with “1 click” ahead so Ed can see upcoming animations and/or foils</a:t>
            </a: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90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778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90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778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14080" y="114480"/>
            <a:ext cx="8070840" cy="54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90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78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02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90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778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14080" y="114480"/>
            <a:ext cx="8070840" cy="54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490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02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490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14080" y="114480"/>
            <a:ext cx="8070840" cy="54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490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778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202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490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778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14080" y="114480"/>
            <a:ext cx="8070840" cy="54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080" y="114480"/>
            <a:ext cx="8070840" cy="54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490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77800" y="131076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02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490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77800" y="3951000"/>
            <a:ext cx="259848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5880" y="395100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020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5880" y="1310760"/>
            <a:ext cx="39384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0200" y="3951000"/>
            <a:ext cx="807084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640640" y="6488280"/>
            <a:ext cx="1352520" cy="27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08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0200" y="1310760"/>
            <a:ext cx="807084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173160" indent="-173160">
              <a:lnSpc>
                <a:spcPct val="95000"/>
              </a:lnSpc>
              <a:spcBef>
                <a:spcPts val="1049"/>
              </a:spcBef>
              <a:buClr>
                <a:srgbClr val="38939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247680">
              <a:lnSpc>
                <a:spcPct val="95000"/>
              </a:lnSpc>
              <a:spcBef>
                <a:spcPts val="1049"/>
              </a:spcBef>
              <a:buClr>
                <a:srgbClr val="3893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38280" indent="-142920">
              <a:lnSpc>
                <a:spcPct val="95000"/>
              </a:lnSpc>
              <a:spcBef>
                <a:spcPts val="1049"/>
              </a:spcBef>
              <a:buClr>
                <a:srgbClr val="38939b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76240" indent="-199800">
              <a:lnSpc>
                <a:spcPct val="95000"/>
              </a:lnSpc>
              <a:spcBef>
                <a:spcPts val="1049"/>
              </a:spcBef>
              <a:buClr>
                <a:srgbClr val="3893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085760" indent="-171360">
              <a:lnSpc>
                <a:spcPct val="95000"/>
              </a:lnSpc>
              <a:spcBef>
                <a:spcPts val="1049"/>
              </a:spcBef>
              <a:buClr>
                <a:srgbClr val="38939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085760" indent="-17136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085760" indent="-17136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5040" y="380880"/>
            <a:ext cx="84106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40" name=""/>
          <p:cNvSpPr/>
          <p:nvPr/>
        </p:nvSpPr>
        <p:spPr>
          <a:xfrm>
            <a:off x="366840" y="1793880"/>
            <a:ext cx="840744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2" marL="91440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3" marL="1382760" indent="-2397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4" marL="1727280" indent="-2304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5" marL="1727280" indent="-2304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6" marL="1727280" indent="-2304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962760" y="6265800"/>
            <a:ext cx="213192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5040" y="380880"/>
            <a:ext cx="84106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81" name=""/>
          <p:cNvSpPr/>
          <p:nvPr/>
        </p:nvSpPr>
        <p:spPr>
          <a:xfrm>
            <a:off x="366840" y="1793880"/>
            <a:ext cx="840744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53000" y="1522440"/>
            <a:ext cx="500688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344520" indent="0" algn="ctr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2" marL="689040" algn="ctr">
              <a:lnSpc>
                <a:spcPct val="9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3" marL="11430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688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6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6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65040" y="380880"/>
            <a:ext cx="84106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121" name=""/>
          <p:cNvSpPr/>
          <p:nvPr/>
        </p:nvSpPr>
        <p:spPr>
          <a:xfrm>
            <a:off x="366840" y="1793880"/>
            <a:ext cx="840744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2" marL="91440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3" marL="1382760" indent="-2397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4" marL="1727280" indent="-2304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5" marL="1727280" indent="-2304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6" marL="1727280" indent="-23040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962760" y="6265800"/>
            <a:ext cx="2131920" cy="69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5040" y="380880"/>
            <a:ext cx="84106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162" name=""/>
          <p:cNvSpPr/>
          <p:nvPr/>
        </p:nvSpPr>
        <p:spPr>
          <a:xfrm>
            <a:off x="366840" y="1793880"/>
            <a:ext cx="840744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753000" y="1522440"/>
            <a:ext cx="500688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26960" y="2301840"/>
            <a:ext cx="8089920" cy="24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3500" spc="-1" strike="noStrike">
              <a:solidFill>
                <a:srgbClr val="000000"/>
              </a:solidFill>
              <a:latin typeface="Whitney Mediu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Advanced XIP Filing System</a:t>
            </a:r>
            <a:endParaRPr b="0" lang="en-US" sz="3500" spc="-1" strike="noStrike">
              <a:solidFill>
                <a:srgbClr val="000000"/>
              </a:solidFill>
              <a:latin typeface="Whitney Mediu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Whitney Mediu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Jared Hulbert</a:t>
            </a:r>
            <a:endParaRPr b="0" lang="en-US" sz="3100" spc="-1" strike="noStrike">
              <a:solidFill>
                <a:srgbClr val="000000"/>
              </a:solidFill>
              <a:latin typeface="Whitney Mediu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Numonyx</a:t>
            </a:r>
            <a:endParaRPr b="0" lang="en-US" sz="3100" spc="-1" strike="noStrike">
              <a:solidFill>
                <a:srgbClr val="000000"/>
              </a:solidFill>
              <a:latin typeface="Whitney Mediu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Arial"/>
              </a:rPr>
              <a:t>April 15, 2008</a:t>
            </a:r>
            <a:endParaRPr b="0" lang="en-US" sz="31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920880" y="2027160"/>
            <a:ext cx="7448400" cy="936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>
                  <a:alpha val="59215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445520" y="0"/>
            <a:ext cx="1698480" cy="142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96840" y="4889520"/>
            <a:ext cx="7448760" cy="936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>
                  <a:alpha val="59215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Image Size Comparison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07" name=""/>
          <p:cNvSpPr/>
          <p:nvPr/>
        </p:nvSpPr>
        <p:spPr>
          <a:xfrm>
            <a:off x="343080" y="6458040"/>
            <a:ext cx="5352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 anchorCtr="1">
            <a:spAutoFit/>
          </a:bodyPr>
          <a:p>
            <a:pPr marL="225360" indent="-22536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~1 year old Opie build from OpenEmbedded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04720" y="1244520"/>
            <a:ext cx="8143920" cy="51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Total Memory Used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895320" y="1433520"/>
            <a:ext cx="741060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Fitting into Real Chips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852480" y="1581120"/>
            <a:ext cx="7419960" cy="47242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52600" y="2095560"/>
            <a:ext cx="5600880" cy="291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Performance: direct comparison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33280" y="1533600"/>
            <a:ext cx="420048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08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Whitney Medium"/>
              </a:rPr>
              <a:t>PXA270</a:t>
            </a:r>
            <a:endParaRPr b="0" lang="en-US" sz="29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9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9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08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Whitney Medium"/>
              </a:rPr>
              <a:t>Linux-2.6.22</a:t>
            </a:r>
            <a:endParaRPr b="0" lang="en-US" sz="29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9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08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Whitney Medium"/>
              </a:rPr>
              <a:t>Opie build</a:t>
            </a:r>
            <a:endParaRPr b="0" lang="en-US" sz="29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9560" y="1600200"/>
            <a:ext cx="552456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520 MHz (CPU)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208 MHz (memory clock)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104 MHz (SDRAM bus)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52 MHz (NOR flash bus)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xipImage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CONFIG_PREEMPT=y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MTD updated to Sept 25 git pull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mem=24MB” in kernel commandline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OpenEmbedded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</a:rPr>
              <a:t>~1 year old</a:t>
            </a:r>
            <a:endParaRPr b="0" lang="en-US" sz="20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Performance: Direct Comparison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484280" y="1436760"/>
            <a:ext cx="6019920" cy="40132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7360" y="5321160"/>
            <a:ext cx="8553600" cy="982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Root Filing System Comparison Video at: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http://www.youtube.com/watch?v=fu6Yj7iKEiA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Performance: realistic comparison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72320" cy="4564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88000"/>
          </a:bodyPr>
          <a:p>
            <a:pPr marL="198000" indent="-19800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Started with commercial phone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PXA270, 48MB RAM, 32MB NOR, 96MB NAND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2" marL="80460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297 MHz (CPU) / 97 MHz (SDRAM bus) /48 MHz (NOR flash bus)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code in CRAMFS from NOR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data in NAND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marL="198000" indent="-19800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XIP”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code in AXFS from NOR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data in NAND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marL="198000" indent="-19800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SnD”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code in CRAMFS from NAND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1" marL="501480" indent="-1980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data on NAND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041480" y="1447920"/>
            <a:ext cx="6864120" cy="3849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Performance: realistic comparison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24" name=""/>
          <p:cNvSpPr/>
          <p:nvPr/>
        </p:nvSpPr>
        <p:spPr>
          <a:xfrm>
            <a:off x="387360" y="5321160"/>
            <a:ext cx="85536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rmAutofit/>
          </a:bodyPr>
          <a:p>
            <a:pPr marL="225360" indent="-22536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  <a:ea typeface="MS PGothic"/>
              </a:rPr>
              <a:t>XIP vs. SND: Realistic Performance Comparison Video at:</a:t>
            </a:r>
            <a:endParaRPr b="0" lang="en-US" sz="20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hitney Medium"/>
                <a:ea typeface="MS PGothic"/>
              </a:rPr>
              <a:t>http://www.youtube.com/watch?v=HUqFrA4FYd0</a:t>
            </a:r>
            <a:endParaRPr b="0" lang="en-US" sz="2000" spc="-1" strike="noStrike">
              <a:solidFill>
                <a:srgbClr val="000000"/>
              </a:solidFill>
              <a:latin typeface="Whitney Medium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Kernel Integration Status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Patches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VM_MIXEDMAP / pageless XIP patchset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2" marL="914400" indent="-22536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just got in –mm tree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2" marL="914400" indent="-22536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2.6.26?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Physaddr in mtd-&gt;point()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2" marL="914400" indent="-22536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Waiting on dwmw2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8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Todo Features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Added compression options (LZO, LZMA, etc)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brd RAM disk support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Git tree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Whitney Medium"/>
              </a:rPr>
              <a:t>git://git.infradead.org/home/jehulber/axfs.git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ourceforge site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Whitney Medium"/>
              </a:rPr>
              <a:t>http://axfs.sf.net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App launch time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47760" y="1173240"/>
            <a:ext cx="825804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SzPct val="171000"/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Goal/History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SzPct val="171000"/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SzPct val="171000"/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Architecture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SzPct val="171000"/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Test Results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SzPct val="171000"/>
              <a:buFont typeface="Thonbu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Kernel Integration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981080" y="12574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Project Goals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upportable solution for application XIP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ine grained control on compression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Flexible use of all system memories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NOR, NAND, RAM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What is Application XIP?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eXecute In Place of userspace code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Run code from where it is stored on Flash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Saves memory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No paging = higher performance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I thought the kernel supported XIP?”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Yes, for ext2 with specialized hardware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Yes, for kernel code segments (xipImage) 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Why a New Filesystem?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0520" y="1600200"/>
            <a:ext cx="8553600" cy="4525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CRAMFS XIP patches used to work BUT...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~9 years old and haven’t been merged???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patches broke, real bad, every year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File level compression choice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hitney Medium"/>
              </a:rPr>
              <a:t>SquashFS? New, better compression BUT…</a:t>
            </a:r>
            <a:endParaRPr b="0" lang="en-US" sz="32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Block device oriented architecture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  <a:p>
            <a:pPr lvl="1" marL="569880" indent="-22536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hitney Medium"/>
              </a:rPr>
              <a:t>Didn’t see how to fit new concepts into arch</a:t>
            </a:r>
            <a:endParaRPr b="0" lang="en-US" sz="28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Features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7760" y="1600200"/>
          <a:ext cx="8496360" cy="4587840"/>
        </p:xfrm>
        <a:graphic>
          <a:graphicData uri="http://schemas.openxmlformats.org/drawingml/2006/table">
            <a:tbl>
              <a:tblPr/>
              <a:tblGrid>
                <a:gridCol w="2395440"/>
                <a:gridCol w="6100920"/>
              </a:tblGrid>
              <a:tr h="1189800">
                <a:tc>
                  <a:txBody>
                    <a:bodyPr lIns="130680" rIns="130680" tIns="65160" bIns="651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Basic Attribut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30680" rIns="130680" tIns="65160" bIns="65160" anchor="t">
                      <a:noAutofit/>
                    </a:bodyPr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Read-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64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Designed with CE requirements in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130680" rIns="130680" tIns="65160" bIns="651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Compressio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30680" rIns="130680" tIns="65160" bIns="65160" anchor="t">
                      <a:noAutofit/>
                    </a:bodyPr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4KB-4GB compression block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Page by page uncompression map for X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130680" rIns="130680" tIns="65160" bIns="651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Flexible Mount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30680" rIns="130680" tIns="65160" bIns="65160" anchor="t">
                      <a:noAutofit/>
                    </a:bodyPr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MTD (NAND/N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block de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split across XIP NOR and non-XIP 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130680" rIns="130680" tIns="65160" bIns="651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Tool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30680" rIns="130680" tIns="65160" bIns="65160" anchor="t">
                      <a:noAutofit/>
                    </a:bodyPr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GPL mkfs.ax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  <a:p>
                      <a:pPr lvl="1" marL="344520">
                        <a:lnSpc>
                          <a:spcPct val="95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Font typeface="Whitney Medium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Whitney Medium"/>
                          <a:ea typeface="MS PGothic"/>
                        </a:rPr>
                        <a:t>Supported propriety image builder 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Whitney Medium"/>
                      </a:endParaRPr>
                    </a:p>
                  </a:txBody>
                  <a:tcPr anchor="t" marL="130680" marR="1306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0520" y="2743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Onmedia Format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22" name=""/>
          <p:cNvSpPr/>
          <p:nvPr/>
        </p:nvSpPr>
        <p:spPr>
          <a:xfrm>
            <a:off x="1036800" y="1998720"/>
            <a:ext cx="370512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9b9"/>
              </a:gs>
              <a:gs pos="100000">
                <a:srgbClr val="133f5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1951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gion Descriptor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2612520" y="1755360"/>
            <a:ext cx="552600" cy="3724200"/>
          </a:xfrm>
          <a:prstGeom prst="rect">
            <a:avLst/>
          </a:prstGeom>
          <a:gradFill rotWithShape="0">
            <a:gsLst>
              <a:gs pos="0">
                <a:srgbClr val="133f55">
                  <a:alpha val="0"/>
                </a:srgbClr>
              </a:gs>
              <a:gs pos="50000">
                <a:srgbClr val="2b89b9">
                  <a:alpha val="63137"/>
                </a:srgbClr>
              </a:gs>
              <a:gs pos="100000">
                <a:srgbClr val="133f5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4" name=""/>
          <p:cNvSpPr/>
          <p:nvPr/>
        </p:nvSpPr>
        <p:spPr>
          <a:xfrm>
            <a:off x="1036800" y="1465200"/>
            <a:ext cx="3705120" cy="49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22c"/>
              </a:gs>
              <a:gs pos="100000">
                <a:srgbClr val="6e2514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f311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Whitney Medium"/>
                <a:ea typeface="Arial"/>
              </a:rPr>
              <a:t>Super Block</a:t>
            </a:r>
            <a:endParaRPr b="0" lang="en-US" sz="22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2612520" y="3384360"/>
            <a:ext cx="542880" cy="3714840"/>
          </a:xfrm>
          <a:prstGeom prst="rect">
            <a:avLst/>
          </a:prstGeom>
          <a:gradFill rotWithShape="0">
            <a:gsLst>
              <a:gs pos="0">
                <a:srgbClr val="750000">
                  <a:alpha val="0"/>
                </a:srgbClr>
              </a:gs>
              <a:gs pos="50000">
                <a:srgbClr val="ff0000">
                  <a:alpha val="63137"/>
                </a:srgbClr>
              </a:gs>
              <a:gs pos="100000">
                <a:srgbClr val="75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6" name=""/>
          <p:cNvSpPr/>
          <p:nvPr/>
        </p:nvSpPr>
        <p:spPr>
          <a:xfrm>
            <a:off x="1027080" y="3808440"/>
            <a:ext cx="3695760" cy="44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Whitney Medium"/>
                <a:ea typeface="Arial"/>
              </a:rPr>
              <a:t>File Info</a:t>
            </a:r>
            <a:endParaRPr b="0" lang="en-US" sz="22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2593800" y="4208040"/>
            <a:ext cx="561960" cy="3724560"/>
          </a:xfrm>
          <a:prstGeom prst="rect">
            <a:avLst/>
          </a:prstGeom>
          <a:gradFill rotWithShape="0">
            <a:gsLst>
              <a:gs pos="0">
                <a:srgbClr val="007500">
                  <a:alpha val="0"/>
                </a:srgbClr>
              </a:gs>
              <a:gs pos="50000">
                <a:srgbClr val="00ff00">
                  <a:alpha val="63137"/>
                </a:srgbClr>
              </a:gs>
              <a:gs pos="100000">
                <a:srgbClr val="0075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2627280" y="2579400"/>
            <a:ext cx="524160" cy="3705120"/>
          </a:xfrm>
          <a:prstGeom prst="rect">
            <a:avLst/>
          </a:prstGeom>
          <a:gradFill rotWithShape="0">
            <a:gsLst>
              <a:gs pos="0">
                <a:srgbClr val="755e00">
                  <a:alpha val="0"/>
                </a:srgbClr>
              </a:gs>
              <a:gs pos="50000">
                <a:srgbClr val="ffcc00">
                  <a:alpha val="63137"/>
                </a:srgbClr>
              </a:gs>
              <a:gs pos="100000">
                <a:srgbClr val="755e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29" name=""/>
          <p:cNvSpPr/>
          <p:nvPr/>
        </p:nvSpPr>
        <p:spPr>
          <a:xfrm>
            <a:off x="1036800" y="4646520"/>
            <a:ext cx="3686040" cy="43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Whitney Medium"/>
                <a:ea typeface="Arial"/>
              </a:rPr>
              <a:t>XIP Region</a:t>
            </a:r>
            <a:endParaRPr b="0" lang="en-US" sz="22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30" name=""/>
          <p:cNvSpPr/>
          <p:nvPr/>
        </p:nvSpPr>
        <p:spPr>
          <a:xfrm>
            <a:off x="1036800" y="2484360"/>
            <a:ext cx="36954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9b9"/>
              </a:gs>
              <a:gs pos="100000">
                <a:srgbClr val="133f5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1951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gion Descriptor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5418000"/>
            <a:ext cx="36954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Whitney Medium"/>
                <a:ea typeface="Arial"/>
              </a:rPr>
              <a:t>Compressed Region</a:t>
            </a:r>
            <a:endParaRPr b="0" lang="en-US" sz="22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32" name=""/>
          <p:cNvSpPr/>
          <p:nvPr/>
        </p:nvSpPr>
        <p:spPr>
          <a:xfrm>
            <a:off x="1027080" y="2951280"/>
            <a:ext cx="370512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9b9"/>
              </a:gs>
              <a:gs pos="100000">
                <a:srgbClr val="133f55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1951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gion Descriptor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cxnSp>
        <p:nvCxnSpPr>
          <p:cNvPr id="233" name=""/>
          <p:cNvCxnSpPr>
            <a:stCxn id="222" idx="3"/>
            <a:endCxn id="231" idx="3"/>
          </p:cNvCxnSpPr>
          <p:nvPr/>
        </p:nvCxnSpPr>
        <p:spPr>
          <a:xfrm flipH="1">
            <a:off x="4731480" y="2226960"/>
            <a:ext cx="10440" cy="3429720"/>
          </a:xfrm>
          <a:prstGeom prst="curvedConnector5">
            <a:avLst>
              <a:gd name="adj1" fmla="val -10414285"/>
              <a:gd name="adj2" fmla="val 50000"/>
              <a:gd name="adj3" fmla="val -10414285"/>
            </a:avLst>
          </a:prstGeom>
          <a:ln w="50760">
            <a:solidFill>
              <a:srgbClr val="646464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0" idx="3"/>
            <a:endCxn id="229" idx="3"/>
          </p:cNvCxnSpPr>
          <p:nvPr/>
        </p:nvCxnSpPr>
        <p:spPr>
          <a:xfrm flipH="1">
            <a:off x="4722480" y="2703600"/>
            <a:ext cx="10080" cy="2162880"/>
          </a:xfrm>
          <a:prstGeom prst="curvedConnector5">
            <a:avLst>
              <a:gd name="adj1" fmla="val -7181481"/>
              <a:gd name="adj2" fmla="val 49991"/>
              <a:gd name="adj3" fmla="val -7181481"/>
            </a:avLst>
          </a:prstGeom>
          <a:ln w="50760">
            <a:solidFill>
              <a:srgbClr val="646464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2" idx="3"/>
            <a:endCxn id="226" idx="3"/>
          </p:cNvCxnSpPr>
          <p:nvPr/>
        </p:nvCxnSpPr>
        <p:spPr>
          <a:xfrm flipH="1">
            <a:off x="4722480" y="3170160"/>
            <a:ext cx="10080" cy="867600"/>
          </a:xfrm>
          <a:prstGeom prst="curvedConnector5">
            <a:avLst>
              <a:gd name="adj1" fmla="val -3981481"/>
              <a:gd name="adj2" fmla="val 49979"/>
              <a:gd name="adj3" fmla="val -3981481"/>
            </a:avLst>
          </a:prstGeom>
          <a:ln w="50760">
            <a:solidFill>
              <a:srgbClr val="646464"/>
            </a:solidFill>
            <a:miter/>
            <a:tailEnd len="med" type="triangle" w="med"/>
          </a:ln>
        </p:spPr>
      </p:cxnSp>
      <p:grpSp>
        <p:nvGrpSpPr>
          <p:cNvPr id="236" name=""/>
          <p:cNvGrpSpPr/>
          <p:nvPr/>
        </p:nvGrpSpPr>
        <p:grpSpPr>
          <a:xfrm>
            <a:off x="122760" y="1711800"/>
            <a:ext cx="915840" cy="1452960"/>
            <a:chOff x="122760" y="1711800"/>
            <a:chExt cx="915840" cy="1452960"/>
          </a:xfrm>
        </p:grpSpPr>
        <p:cxnSp>
          <p:nvCxnSpPr>
            <p:cNvPr id="237" name=""/>
            <p:cNvCxnSpPr/>
            <p:nvPr/>
          </p:nvCxnSpPr>
          <p:spPr>
            <a:xfrm flipH="1" flipV="1" rot="10800000">
              <a:off x="1036440" y="1712520"/>
              <a:ext cx="2160" cy="510480"/>
            </a:xfrm>
            <a:prstGeom prst="curvedConnector5">
              <a:avLst>
                <a:gd name="adj1" fmla="val -19800000"/>
                <a:gd name="adj2" fmla="val 49964"/>
                <a:gd name="adj3" fmla="val -19800000"/>
              </a:avLst>
            </a:prstGeom>
            <a:ln w="50760">
              <a:solidFill>
                <a:srgbClr val="646464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/>
            <p:nvPr/>
          </p:nvCxnSpPr>
          <p:spPr>
            <a:xfrm flipH="1" flipV="1" rot="10800000">
              <a:off x="1036440" y="1711800"/>
              <a:ext cx="2160" cy="986760"/>
            </a:xfrm>
            <a:prstGeom prst="curvedConnector5">
              <a:avLst>
                <a:gd name="adj1" fmla="val -38200000"/>
                <a:gd name="adj2" fmla="val 50000"/>
                <a:gd name="adj3" fmla="val -38200000"/>
              </a:avLst>
            </a:prstGeom>
            <a:ln w="50760">
              <a:solidFill>
                <a:srgbClr val="646464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24" idx="1"/>
              <a:endCxn id="232" idx="1"/>
            </p:cNvCxnSpPr>
            <p:nvPr/>
          </p:nvCxnSpPr>
          <p:spPr>
            <a:xfrm flipV="1" rot="10800000">
              <a:off x="1026360" y="1711800"/>
              <a:ext cx="10440" cy="1453320"/>
            </a:xfrm>
            <a:prstGeom prst="curvedConnector5">
              <a:avLst>
                <a:gd name="adj1" fmla="val 9064285"/>
                <a:gd name="adj2" fmla="val 50000"/>
                <a:gd name="adj3" fmla="val 9064285"/>
              </a:avLst>
            </a:prstGeom>
            <a:ln w="50760">
              <a:solidFill>
                <a:srgbClr val="646464"/>
              </a:solidFill>
              <a:miter/>
              <a:tailEnd len="med" type="triangle" w="med"/>
            </a:ln>
          </p:spPr>
        </p:cxnSp>
      </p:grp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54160" y="1523880"/>
            <a:ext cx="3489480" cy="48434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9000"/>
          </a:bodyPr>
          <a:p>
            <a:pPr marL="222840" indent="-222840">
              <a:lnSpc>
                <a:spcPct val="85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Whitney Medium"/>
              </a:rPr>
              <a:t>Superblock</a:t>
            </a:r>
            <a:endParaRPr b="0" lang="en-US" sz="2500" spc="-1" strike="noStrike">
              <a:solidFill>
                <a:srgbClr val="ffffff"/>
              </a:solidFill>
              <a:latin typeface="Whitney Medium"/>
            </a:endParaRPr>
          </a:p>
          <a:p>
            <a:pPr lvl="1" marL="564120" indent="-222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Points to many region descriptor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marL="222840" indent="-222840">
              <a:lnSpc>
                <a:spcPct val="85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Whitney Medium"/>
              </a:rPr>
              <a:t>Region Descriptor</a:t>
            </a:r>
            <a:endParaRPr b="0" lang="en-US" sz="2500" spc="-1" strike="noStrike">
              <a:solidFill>
                <a:srgbClr val="ffffff"/>
              </a:solidFill>
              <a:latin typeface="Whitney Medium"/>
            </a:endParaRPr>
          </a:p>
          <a:p>
            <a:pPr lvl="1" marL="564120" indent="-222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Describes / points to one region 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marL="222840" indent="-222840">
              <a:lnSpc>
                <a:spcPct val="85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Whitney Medium"/>
              </a:rPr>
              <a:t>Regions</a:t>
            </a:r>
            <a:endParaRPr b="0" lang="en-US" sz="2500" spc="-1" strike="noStrike">
              <a:solidFill>
                <a:srgbClr val="ffffff"/>
              </a:solidFill>
              <a:latin typeface="Whitney Medium"/>
            </a:endParaRPr>
          </a:p>
          <a:p>
            <a:pPr lvl="1" marL="564120" indent="-222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Each data type / table has own region 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lvl="1" marL="564120" indent="-222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Whitney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hitney Medium"/>
              </a:rPr>
              <a:t>permissions, file names, file node info, file data, etc.</a:t>
            </a: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  <a:p>
            <a:pPr marL="2228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hitney Medium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0160" y="274320"/>
            <a:ext cx="269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</a:rPr>
              <a:t>Data Flow</a:t>
            </a:r>
            <a:endParaRPr b="0" lang="en-US" sz="4400" spc="-1" strike="noStrike">
              <a:solidFill>
                <a:srgbClr val="ffffff"/>
              </a:solidFill>
              <a:latin typeface="Whitney Medium"/>
            </a:endParaRPr>
          </a:p>
        </p:txBody>
      </p:sp>
      <p:sp>
        <p:nvSpPr>
          <p:cNvPr id="242" name=""/>
          <p:cNvSpPr/>
          <p:nvPr/>
        </p:nvSpPr>
        <p:spPr>
          <a:xfrm>
            <a:off x="1376280" y="5386320"/>
            <a:ext cx="541044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522c"/>
              </a:gs>
              <a:gs pos="100000">
                <a:srgbClr val="6e2514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 Virtual Pages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43" name=""/>
          <p:cNvSpPr/>
          <p:nvPr/>
        </p:nvSpPr>
        <p:spPr>
          <a:xfrm>
            <a:off x="2328840" y="1271520"/>
            <a:ext cx="1352520" cy="40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 Index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44" name=""/>
          <p:cNvSpPr/>
          <p:nvPr/>
        </p:nvSpPr>
        <p:spPr>
          <a:xfrm>
            <a:off x="2986200" y="2119320"/>
            <a:ext cx="235260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46464"/>
              </a:gs>
              <a:gs pos="100000">
                <a:srgbClr val="2e2e2e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3090960" y="2270160"/>
            <a:ext cx="55224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89b9"/>
              </a:gs>
              <a:gs pos="100000">
                <a:srgbClr val="133f55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IP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46" name=""/>
          <p:cNvSpPr/>
          <p:nvPr/>
        </p:nvSpPr>
        <p:spPr>
          <a:xfrm>
            <a:off x="3747960" y="2279520"/>
            <a:ext cx="1495440" cy="48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56ab"/>
              </a:gs>
              <a:gs pos="100000">
                <a:srgbClr val="133f55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pressed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47" name=""/>
          <p:cNvSpPr/>
          <p:nvPr/>
        </p:nvSpPr>
        <p:spPr>
          <a:xfrm>
            <a:off x="4281480" y="1281240"/>
            <a:ext cx="1962000" cy="40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 Type Table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cxnSp>
        <p:nvCxnSpPr>
          <p:cNvPr id="248" name=""/>
          <p:cNvCxnSpPr>
            <a:stCxn id="249" idx="2"/>
            <a:endCxn id="247" idx="0"/>
          </p:cNvCxnSpPr>
          <p:nvPr/>
        </p:nvCxnSpPr>
        <p:spPr>
          <a:xfrm flipH="1" rot="16200000">
            <a:off x="4452840" y="471600"/>
            <a:ext cx="457920" cy="116244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50760">
            <a:solidFill>
              <a:srgbClr val="dcdcdc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3" idx="2"/>
            <a:endCxn id="244" idx="0"/>
          </p:cNvCxnSpPr>
          <p:nvPr/>
        </p:nvCxnSpPr>
        <p:spPr>
          <a:xfrm flipH="1" rot="16200000">
            <a:off x="3364560" y="1321560"/>
            <a:ext cx="438840" cy="115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0760">
            <a:solidFill>
              <a:srgbClr val="dcdcdc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3700440" y="423720"/>
            <a:ext cx="800280" cy="4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ode</a:t>
            </a:r>
            <a:endParaRPr b="0" lang="en-US" sz="1800" spc="-1" strike="noStrike">
              <a:solidFill>
                <a:srgbClr val="000000"/>
              </a:solidFill>
              <a:latin typeface="Whitney Medium"/>
            </a:endParaRPr>
          </a:p>
        </p:txBody>
      </p:sp>
      <p:cxnSp>
        <p:nvCxnSpPr>
          <p:cNvPr id="251" name=""/>
          <p:cNvCxnSpPr>
            <a:stCxn id="249" idx="2"/>
            <a:endCxn id="243" idx="0"/>
          </p:cNvCxnSpPr>
          <p:nvPr/>
        </p:nvCxnSpPr>
        <p:spPr>
          <a:xfrm rot="5400000">
            <a:off x="3328560" y="500040"/>
            <a:ext cx="448200" cy="1095840"/>
          </a:xfrm>
          <a:prstGeom prst="curvedConnector5">
            <a:avLst>
              <a:gd name="adj1" fmla="val 48874"/>
              <a:gd name="adj2" fmla="val 49983"/>
              <a:gd name="adj3" fmla="val 48874"/>
            </a:avLst>
          </a:prstGeom>
          <a:ln w="50760">
            <a:solidFill>
              <a:srgbClr val="dcdcdc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7" idx="2"/>
            <a:endCxn id="244" idx="0"/>
          </p:cNvCxnSpPr>
          <p:nvPr/>
        </p:nvCxnSpPr>
        <p:spPr>
          <a:xfrm rot="5400000">
            <a:off x="4497480" y="1354680"/>
            <a:ext cx="429480" cy="1100880"/>
          </a:xfrm>
          <a:prstGeom prst="curvedConnector5">
            <a:avLst>
              <a:gd name="adj1" fmla="val 50000"/>
              <a:gd name="adj2" fmla="val 49983"/>
              <a:gd name="adj3" fmla="val 50000"/>
            </a:avLst>
          </a:prstGeom>
          <a:ln w="50760">
            <a:solidFill>
              <a:srgbClr val="dcdcdc"/>
            </a:solidFill>
            <a:miter/>
            <a:tailEnd len="med" type="triangle" w="med"/>
          </a:ln>
        </p:spPr>
      </p:cxnSp>
      <p:grpSp>
        <p:nvGrpSpPr>
          <p:cNvPr id="253" name=""/>
          <p:cNvGrpSpPr/>
          <p:nvPr/>
        </p:nvGrpSpPr>
        <p:grpSpPr>
          <a:xfrm>
            <a:off x="318960" y="2109960"/>
            <a:ext cx="4262400" cy="4171680"/>
            <a:chOff x="318960" y="2109960"/>
            <a:chExt cx="4262400" cy="4171680"/>
          </a:xfrm>
        </p:grpSpPr>
        <p:grpSp>
          <p:nvGrpSpPr>
            <p:cNvPr id="254" name=""/>
            <p:cNvGrpSpPr/>
            <p:nvPr/>
          </p:nvGrpSpPr>
          <p:grpSpPr>
            <a:xfrm>
              <a:off x="318960" y="2109960"/>
              <a:ext cx="1465200" cy="2436480"/>
              <a:chOff x="318960" y="2109960"/>
              <a:chExt cx="1465200" cy="2436480"/>
            </a:xfrm>
          </p:grpSpPr>
          <p:sp>
            <p:nvSpPr>
              <p:cNvPr id="255" name=""/>
              <p:cNvSpPr/>
              <p:nvPr/>
            </p:nvSpPr>
            <p:spPr>
              <a:xfrm>
                <a:off x="318960" y="2109960"/>
                <a:ext cx="1465200" cy="2436480"/>
              </a:xfrm>
              <a:custGeom>
                <a:avLst/>
                <a:gdLst>
                  <a:gd name="textAreaLeft" fmla="*/ 71280 w 1465200"/>
                  <a:gd name="textAreaRight" fmla="*/ 1393920 w 1465200"/>
                  <a:gd name="textAreaTop" fmla="*/ 71280 h 2436480"/>
                  <a:gd name="textAreaBottom" fmla="*/ 2365200 h 2436480"/>
                </a:gdLst>
                <a:ahLst/>
                <a:rect l="textAreaLeft" t="textAreaTop" r="textAreaRight" b="textAreaBottom"/>
                <a:pathLst>
                  <a:path w="21600" h="35915">
                    <a:moveTo>
                      <a:pt x="3600" y="0"/>
                    </a:moveTo>
                    <a:arcTo wR="3600" hR="3600" stAng="16200000" swAng="-5400000"/>
                    <a:lnTo>
                      <a:pt x="0" y="32315"/>
                    </a:lnTo>
                    <a:arcTo wR="3600" hR="3600" stAng="10800000" swAng="-5400000"/>
                    <a:lnTo>
                      <a:pt x="18000" y="3591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2b89b9"/>
                  </a:gs>
                  <a:gs pos="100000">
                    <a:srgbClr val="133f55"/>
                  </a:gs>
                </a:gsLst>
                <a:lin ang="10800000"/>
              </a:gradFill>
              <a:ln w="9360">
                <a:solidFill>
                  <a:srgbClr val="c8c8c8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4080" rIns="64080" tIns="32040" bIns="32040" anchor="t">
                <a:noAutofit/>
              </a:bodyPr>
              <a:p>
                <a:pPr marL="225360" indent="-225360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IP Region</a:t>
                </a: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4720" y="2529000"/>
                <a:ext cx="969480" cy="443160"/>
              </a:xfrm>
              <a:prstGeom prst="rect">
                <a:avLst/>
              </a:prstGeom>
              <a:solidFill>
                <a:srgbClr val="38939b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5360" indent="-225360" algn="ctr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dex 0</a:t>
                </a: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7440" y="3967920"/>
                <a:ext cx="958680" cy="426960"/>
              </a:xfrm>
              <a:prstGeom prst="rect">
                <a:avLst/>
              </a:prstGeom>
              <a:gradFill rotWithShape="0">
                <a:gsLst>
                  <a:gs pos="0">
                    <a:srgbClr val="38939b"/>
                  </a:gs>
                  <a:gs pos="100000">
                    <a:srgbClr val="0860a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5360" indent="-225360" algn="ctr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6080" y="3008520"/>
                <a:ext cx="969480" cy="443160"/>
              </a:xfrm>
              <a:prstGeom prst="rect">
                <a:avLst/>
              </a:prstGeom>
              <a:solidFill>
                <a:srgbClr val="38939b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5360" indent="-225360" algn="ctr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dex 1</a:t>
                </a: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080" y="3488400"/>
                <a:ext cx="969480" cy="443160"/>
              </a:xfrm>
              <a:prstGeom prst="rect">
                <a:avLst/>
              </a:prstGeom>
              <a:solidFill>
                <a:srgbClr val="38939b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5360" indent="-225360" algn="ctr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dex 2</a:t>
                </a: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</p:grpSp>
        <p:cxnSp>
          <p:nvCxnSpPr>
            <p:cNvPr id="260" name=""/>
            <p:cNvCxnSpPr>
              <a:stCxn id="245" idx="1"/>
              <a:endCxn id="258" idx="3"/>
            </p:cNvCxnSpPr>
            <p:nvPr/>
          </p:nvCxnSpPr>
          <p:spPr>
            <a:xfrm flipV="1" rot="10800000">
              <a:off x="1564560" y="2513520"/>
              <a:ext cx="1526400" cy="716760"/>
            </a:xfrm>
            <a:prstGeom prst="curvedConnector5">
              <a:avLst>
                <a:gd name="adj1" fmla="val 50247"/>
                <a:gd name="adj2" fmla="val 50000"/>
                <a:gd name="adj3" fmla="val 50247"/>
              </a:avLst>
            </a:prstGeom>
            <a:ln w="50760">
              <a:solidFill>
                <a:srgbClr val="dcdcdc"/>
              </a:solidFill>
              <a:miter/>
              <a:tailEnd len="med" type="triangle" w="med"/>
            </a:ln>
          </p:spPr>
        </p:cxnSp>
        <p:sp>
          <p:nvSpPr>
            <p:cNvPr id="261" name=""/>
            <p:cNvSpPr/>
            <p:nvPr/>
          </p:nvSpPr>
          <p:spPr>
            <a:xfrm>
              <a:off x="1519200" y="5838840"/>
              <a:ext cx="971640" cy="442800"/>
            </a:xfrm>
            <a:prstGeom prst="rect">
              <a:avLst/>
            </a:prstGeom>
            <a:solidFill>
              <a:srgbClr val="38939b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5360" indent="-225360">
                <a:lnSpc>
                  <a:spcPct val="9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dex 1</a:t>
              </a:r>
              <a:endParaRPr b="0" lang="en-US" sz="1800" spc="-1" strike="noStrike">
                <a:solidFill>
                  <a:srgbClr val="000000"/>
                </a:solidFill>
                <a:latin typeface="Whitney Medium"/>
              </a:endParaRPr>
            </a:p>
          </p:txBody>
        </p:sp>
        <p:cxnSp>
          <p:nvCxnSpPr>
            <p:cNvPr id="262" name=""/>
            <p:cNvCxnSpPr>
              <a:stCxn id="258" idx="1"/>
              <a:endCxn id="261" idx="1"/>
            </p:cNvCxnSpPr>
            <p:nvPr/>
          </p:nvCxnSpPr>
          <p:spPr>
            <a:xfrm flipH="1" flipV="1" rot="10800000">
              <a:off x="576720" y="3230280"/>
              <a:ext cx="934200" cy="2831040"/>
            </a:xfrm>
            <a:prstGeom prst="curvedConnector5">
              <a:avLst>
                <a:gd name="adj1" fmla="val -23631"/>
                <a:gd name="adj2" fmla="val 49993"/>
                <a:gd name="adj3" fmla="val -23631"/>
              </a:avLst>
            </a:prstGeom>
            <a:ln w="50760">
              <a:solidFill>
                <a:srgbClr val="dcdcdc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2562120" y="5838840"/>
              <a:ext cx="971640" cy="442800"/>
            </a:xfrm>
            <a:prstGeom prst="rect">
              <a:avLst/>
            </a:prstGeom>
            <a:solidFill>
              <a:srgbClr val="38939b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5360" indent="-225360">
                <a:lnSpc>
                  <a:spcPct val="9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hitney Medium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10080" y="5830920"/>
              <a:ext cx="971280" cy="442800"/>
            </a:xfrm>
            <a:prstGeom prst="rect">
              <a:avLst/>
            </a:prstGeom>
            <a:solidFill>
              <a:srgbClr val="3fa7a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5360" indent="-225360">
                <a:lnSpc>
                  <a:spcPct val="9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hitney Medium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967040" y="2509920"/>
            <a:ext cx="7049520" cy="2695320"/>
            <a:chOff x="1967040" y="2509920"/>
            <a:chExt cx="7049520" cy="2695320"/>
          </a:xfrm>
        </p:grpSpPr>
        <p:grpSp>
          <p:nvGrpSpPr>
            <p:cNvPr id="266" name=""/>
            <p:cNvGrpSpPr/>
            <p:nvPr/>
          </p:nvGrpSpPr>
          <p:grpSpPr>
            <a:xfrm>
              <a:off x="6473880" y="3071880"/>
              <a:ext cx="2438280" cy="2133360"/>
              <a:chOff x="6473880" y="3071880"/>
              <a:chExt cx="2438280" cy="2133360"/>
            </a:xfrm>
          </p:grpSpPr>
          <p:sp>
            <p:nvSpPr>
              <p:cNvPr id="267" name=""/>
              <p:cNvSpPr/>
              <p:nvPr/>
            </p:nvSpPr>
            <p:spPr>
              <a:xfrm>
                <a:off x="6473880" y="3071880"/>
                <a:ext cx="2438280" cy="2133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a56ab"/>
                  </a:gs>
                  <a:gs pos="100000">
                    <a:srgbClr val="46274e"/>
                  </a:gs>
                </a:gsLst>
                <a:lin ang="10800000"/>
              </a:gradFill>
              <a:ln w="9360">
                <a:solidFill>
                  <a:srgbClr val="c8c8c8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4080" rIns="64080" tIns="32040" bIns="32040" anchor="t">
                <a:noAutofit/>
              </a:bodyPr>
              <a:p>
                <a:pPr marL="225360" indent="-225360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mpressed Region</a:t>
                </a: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5400000">
                <a:off x="7049520" y="3467160"/>
                <a:ext cx="457200" cy="695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5400000">
                <a:off x="7835400" y="3395520"/>
                <a:ext cx="457200" cy="838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400000">
                <a:off x="7193160" y="3781440"/>
                <a:ext cx="466560" cy="990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21360" y="4529160"/>
                <a:ext cx="1581120" cy="447480"/>
              </a:xfrm>
              <a:prstGeom prst="rect">
                <a:avLst/>
              </a:prstGeom>
              <a:gradFill rotWithShape="0">
                <a:gsLst>
                  <a:gs pos="0">
                    <a:srgbClr val="9a56ab"/>
                  </a:gs>
                  <a:gs pos="100000">
                    <a:srgbClr val="eec81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5400000">
                <a:off x="7973640" y="4000320"/>
                <a:ext cx="466560" cy="5526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6588000" y="2509920"/>
              <a:ext cx="2200320" cy="390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56ab"/>
                </a:gs>
                <a:gs pos="100000">
                  <a:srgbClr val="46274e"/>
                </a:gs>
              </a:gsLst>
              <a:lin ang="10800000"/>
            </a:gradFill>
            <a:ln w="9360">
              <a:solidFill>
                <a:srgbClr val="c8c8c8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ctr" anchorCtr="1">
              <a:noAutofit/>
            </a:bodyPr>
            <a:p>
              <a:pPr marL="225360" indent="-225360">
                <a:lnSpc>
                  <a:spcPct val="9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block Offset Table</a:t>
              </a:r>
              <a:endParaRPr b="0" lang="en-US" sz="1800" spc="-1" strike="noStrike">
                <a:solidFill>
                  <a:srgbClr val="000000"/>
                </a:solidFill>
                <a:latin typeface="Whitney Medium"/>
              </a:endParaRPr>
            </a:p>
          </p:txBody>
        </p:sp>
        <p:cxnSp>
          <p:nvCxnSpPr>
            <p:cNvPr id="274" name=""/>
            <p:cNvCxnSpPr>
              <a:stCxn id="246" idx="3"/>
              <a:endCxn id="273" idx="1"/>
            </p:cNvCxnSpPr>
            <p:nvPr/>
          </p:nvCxnSpPr>
          <p:spPr>
            <a:xfrm>
              <a:off x="5243040" y="2523600"/>
              <a:ext cx="1345320" cy="181800"/>
            </a:xfrm>
            <a:prstGeom prst="curvedConnector5">
              <a:avLst>
                <a:gd name="adj1" fmla="val 49919"/>
                <a:gd name="adj2" fmla="val 50000"/>
                <a:gd name="adj3" fmla="val 49919"/>
              </a:avLst>
            </a:prstGeom>
            <a:ln w="50760">
              <a:solidFill>
                <a:srgbClr val="dcdcdc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3" idx="3"/>
              <a:endCxn id="272" idx="0"/>
            </p:cNvCxnSpPr>
            <p:nvPr/>
          </p:nvCxnSpPr>
          <p:spPr>
            <a:xfrm flipH="1">
              <a:off x="8497080" y="2705040"/>
              <a:ext cx="291240" cy="1572480"/>
            </a:xfrm>
            <a:prstGeom prst="curvedConnector5">
              <a:avLst>
                <a:gd name="adj1" fmla="val -78589"/>
                <a:gd name="adj2" fmla="val 49988"/>
                <a:gd name="adj3" fmla="val -78589"/>
              </a:avLst>
            </a:prstGeom>
            <a:ln w="50760">
              <a:solidFill>
                <a:srgbClr val="dcdcdc"/>
              </a:solidFill>
              <a:miter/>
              <a:tailEnd len="med" type="triangle" w="med"/>
            </a:ln>
          </p:spPr>
        </p:cxnSp>
        <p:grpSp>
          <p:nvGrpSpPr>
            <p:cNvPr id="276" name=""/>
            <p:cNvGrpSpPr/>
            <p:nvPr/>
          </p:nvGrpSpPr>
          <p:grpSpPr>
            <a:xfrm>
              <a:off x="1967040" y="4110120"/>
              <a:ext cx="5949720" cy="960120"/>
              <a:chOff x="1967040" y="4110120"/>
              <a:chExt cx="5949720" cy="96012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1967040" y="4110120"/>
                <a:ext cx="4217760" cy="960120"/>
                <a:chOff x="1967040" y="4110120"/>
                <a:chExt cx="4217760" cy="9601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967040" y="4110120"/>
                  <a:ext cx="4217760" cy="9601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9a56ab"/>
                    </a:gs>
                    <a:gs pos="100000">
                      <a:srgbClr val="46274e"/>
                    </a:gs>
                  </a:gsLst>
                  <a:lin ang="10800000"/>
                </a:gradFill>
                <a:ln w="9360">
                  <a:solidFill>
                    <a:srgbClr val="c8c8c8"/>
                  </a:solidFill>
                  <a:miter/>
                </a:ln>
                <a:effectLst>
                  <a:outerShdw dist="17819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marL="225360" indent="-225360">
                    <a:lnSpc>
                      <a:spcPct val="95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Uncompressed cblock</a:t>
                  </a:r>
                  <a:endParaRPr b="0" lang="en-US" sz="1800" spc="-1" strike="noStrike">
                    <a:solidFill>
                      <a:srgbClr val="000000"/>
                    </a:solidFill>
                    <a:latin typeface="Whitney Medium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137320" y="4527720"/>
                  <a:ext cx="971640" cy="380880"/>
                </a:xfrm>
                <a:prstGeom prst="rect">
                  <a:avLst/>
                </a:prstGeom>
                <a:solidFill>
                  <a:srgbClr val="9a56ab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225360" indent="-225360" algn="ctr">
                    <a:lnSpc>
                      <a:spcPct val="95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dex 0</a:t>
                  </a:r>
                  <a:endParaRPr b="0" lang="en-US" sz="1800" spc="-1" strike="noStrike">
                    <a:solidFill>
                      <a:srgbClr val="000000"/>
                    </a:solidFill>
                    <a:latin typeface="Whitney Medium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098240" y="4527720"/>
                  <a:ext cx="971640" cy="380880"/>
                </a:xfrm>
                <a:prstGeom prst="rect">
                  <a:avLst/>
                </a:prstGeom>
                <a:solidFill>
                  <a:srgbClr val="9a56ab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225360" indent="-225360" algn="ctr">
                    <a:lnSpc>
                      <a:spcPct val="95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dex 2</a:t>
                  </a:r>
                  <a:endParaRPr b="0" lang="en-US" sz="1800" spc="-1" strike="noStrike">
                    <a:solidFill>
                      <a:srgbClr val="000000"/>
                    </a:solidFill>
                    <a:latin typeface="Whitney Medium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117960" y="4527720"/>
                  <a:ext cx="971640" cy="380880"/>
                </a:xfrm>
                <a:prstGeom prst="rect">
                  <a:avLst/>
                </a:prstGeom>
                <a:solidFill>
                  <a:srgbClr val="eec811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225360" indent="-225360" algn="ctr">
                    <a:lnSpc>
                      <a:spcPct val="95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dex 1</a:t>
                  </a:r>
                  <a:endParaRPr b="0" lang="en-US" sz="1800" spc="-1" strike="noStrike">
                    <a:solidFill>
                      <a:srgbClr val="000000"/>
                    </a:solidFill>
                    <a:latin typeface="Whitney Medium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081040" y="4527720"/>
                  <a:ext cx="969480" cy="380880"/>
                </a:xfrm>
                <a:prstGeom prst="rect">
                  <a:avLst/>
                </a:prstGeom>
                <a:solidFill>
                  <a:srgbClr val="eec811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225360" indent="-225360" algn="ctr">
                    <a:lnSpc>
                      <a:spcPct val="95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Index 3</a:t>
                  </a:r>
                  <a:endParaRPr b="0" lang="en-US" sz="1800" spc="-1" strike="noStrike">
                    <a:solidFill>
                      <a:srgbClr val="000000"/>
                    </a:solidFill>
                    <a:latin typeface="Whitney Medium"/>
                  </a:endParaRPr>
                </a:p>
              </p:txBody>
            </p:sp>
          </p:grpSp>
          <p:cxnSp>
            <p:nvCxnSpPr>
              <p:cNvPr id="283" name=""/>
              <p:cNvCxnSpPr>
                <a:stCxn id="272" idx="2"/>
                <a:endCxn id="278" idx="3"/>
              </p:cNvCxnSpPr>
              <p:nvPr/>
            </p:nvCxnSpPr>
            <p:spPr>
              <a:xfrm flipV="1" rot="10800000">
                <a:off x="6185880" y="4275720"/>
                <a:ext cx="1730880" cy="315000"/>
              </a:xfrm>
              <a:prstGeom prst="curvedConnector5">
                <a:avLst>
                  <a:gd name="adj1" fmla="val 49531"/>
                  <a:gd name="adj2" fmla="val 50000"/>
                  <a:gd name="adj3" fmla="val 49531"/>
                </a:avLst>
              </a:prstGeom>
              <a:ln w="50760">
                <a:solidFill>
                  <a:srgbClr val="dcdcd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84" name=""/>
          <p:cNvGrpSpPr/>
          <p:nvPr/>
        </p:nvGrpSpPr>
        <p:grpSpPr>
          <a:xfrm>
            <a:off x="2948040" y="2766960"/>
            <a:ext cx="3705120" cy="3506760"/>
            <a:chOff x="2948040" y="2766960"/>
            <a:chExt cx="3705120" cy="3506760"/>
          </a:xfrm>
        </p:grpSpPr>
        <p:sp>
          <p:nvSpPr>
            <p:cNvPr id="285" name=""/>
            <p:cNvSpPr/>
            <p:nvPr/>
          </p:nvSpPr>
          <p:spPr>
            <a:xfrm>
              <a:off x="4648320" y="5829480"/>
              <a:ext cx="971280" cy="444240"/>
            </a:xfrm>
            <a:prstGeom prst="rect">
              <a:avLst/>
            </a:prstGeom>
            <a:solidFill>
              <a:srgbClr val="eec811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5360" indent="-225360">
                <a:lnSpc>
                  <a:spcPct val="9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hitney Medium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48040" y="3262320"/>
              <a:ext cx="2276280" cy="40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a56ab"/>
                </a:gs>
                <a:gs pos="100000">
                  <a:srgbClr val="46274e"/>
                </a:gs>
              </a:gsLst>
              <a:lin ang="10800000"/>
            </a:gradFill>
            <a:ln w="9360">
              <a:solidFill>
                <a:srgbClr val="c8c8c8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ctr" anchorCtr="1">
              <a:noAutofit/>
            </a:bodyPr>
            <a:p>
              <a:pPr marL="225360" indent="-225360">
                <a:lnSpc>
                  <a:spcPct val="95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node Offset Table</a:t>
              </a:r>
              <a:endParaRPr b="0" lang="en-US" sz="1800" spc="-1" strike="noStrike">
                <a:solidFill>
                  <a:srgbClr val="000000"/>
                </a:solidFill>
                <a:latin typeface="Whitney Medium"/>
              </a:endParaRPr>
            </a:p>
          </p:txBody>
        </p:sp>
        <p:cxnSp>
          <p:nvCxnSpPr>
            <p:cNvPr id="287" name=""/>
            <p:cNvCxnSpPr>
              <a:stCxn id="246" idx="2"/>
              <a:endCxn id="286" idx="0"/>
            </p:cNvCxnSpPr>
            <p:nvPr/>
          </p:nvCxnSpPr>
          <p:spPr>
            <a:xfrm rot="5400000">
              <a:off x="4042440" y="2809800"/>
              <a:ext cx="496080" cy="410040"/>
            </a:xfrm>
            <a:prstGeom prst="curvedConnector5">
              <a:avLst>
                <a:gd name="adj1" fmla="val 49673"/>
                <a:gd name="adj2" fmla="val 50000"/>
                <a:gd name="adj3" fmla="val 49673"/>
              </a:avLst>
            </a:prstGeom>
            <a:ln w="50760">
              <a:solidFill>
                <a:srgbClr val="dcdcdc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86" idx="2"/>
              <a:endCxn id="282" idx="0"/>
            </p:cNvCxnSpPr>
            <p:nvPr/>
          </p:nvCxnSpPr>
          <p:spPr>
            <a:xfrm flipH="1" rot="16200000">
              <a:off x="4402080" y="3355560"/>
              <a:ext cx="849960" cy="1481760"/>
            </a:xfrm>
            <a:prstGeom prst="curvedConnector5">
              <a:avLst>
                <a:gd name="adj1" fmla="val 50466"/>
                <a:gd name="adj2" fmla="val 49987"/>
                <a:gd name="adj3" fmla="val 50466"/>
              </a:avLst>
            </a:prstGeom>
            <a:ln w="50760">
              <a:solidFill>
                <a:srgbClr val="dcdcdc"/>
              </a:solidFill>
              <a:miter/>
              <a:tailEnd len="med" type="triangle" w="med"/>
            </a:ln>
          </p:spPr>
        </p:cxnSp>
        <p:grpSp>
          <p:nvGrpSpPr>
            <p:cNvPr id="289" name=""/>
            <p:cNvGrpSpPr/>
            <p:nvPr/>
          </p:nvGrpSpPr>
          <p:grpSpPr>
            <a:xfrm>
              <a:off x="5566320" y="4917600"/>
              <a:ext cx="1086840" cy="1356120"/>
              <a:chOff x="5566320" y="4917600"/>
              <a:chExt cx="1086840" cy="1356120"/>
            </a:xfrm>
          </p:grpSpPr>
          <p:sp>
            <p:nvSpPr>
              <p:cNvPr id="290" name=""/>
              <p:cNvSpPr/>
              <p:nvPr/>
            </p:nvSpPr>
            <p:spPr>
              <a:xfrm>
                <a:off x="5681520" y="5829480"/>
                <a:ext cx="971640" cy="444240"/>
              </a:xfrm>
              <a:prstGeom prst="rect">
                <a:avLst/>
              </a:prstGeom>
              <a:solidFill>
                <a:srgbClr val="eec811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25360" indent="-225360">
                  <a:lnSpc>
                    <a:spcPct val="95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dex 3</a:t>
                </a:r>
                <a:endParaRPr b="0" lang="en-US" sz="1800" spc="-1" strike="noStrike">
                  <a:solidFill>
                    <a:srgbClr val="000000"/>
                  </a:solidFill>
                  <a:latin typeface="Whitney Medium"/>
                </a:endParaRPr>
              </a:p>
            </p:txBody>
          </p:sp>
          <p:cxnSp>
            <p:nvCxnSpPr>
              <p:cNvPr id="291" name=""/>
              <p:cNvCxnSpPr>
                <a:stCxn id="282" idx="2"/>
                <a:endCxn id="290" idx="0"/>
              </p:cNvCxnSpPr>
              <p:nvPr/>
            </p:nvCxnSpPr>
            <p:spPr>
              <a:xfrm flipH="1" rot="16200000">
                <a:off x="5414760" y="5069160"/>
                <a:ext cx="903960" cy="600840"/>
              </a:xfrm>
              <a:prstGeom prst="curvedConnector5">
                <a:avLst>
                  <a:gd name="adj1" fmla="val 49880"/>
                  <a:gd name="adj2" fmla="val 50000"/>
                  <a:gd name="adj3" fmla="val 49880"/>
                </a:avLst>
              </a:prstGeom>
              <a:ln w="50760">
                <a:solidFill>
                  <a:srgbClr val="dcdcdc"/>
                </a:solidFill>
                <a:miter/>
                <a:tailEnd len="med" type="triangle" w="med"/>
              </a:ln>
            </p:spPr>
          </p:cxnSp>
        </p:grpSp>
      </p:grp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5200" y="2100240"/>
            <a:ext cx="1057320" cy="2619360"/>
          </a:xfrm>
          <a:custGeom>
            <a:avLst/>
            <a:gdLst>
              <a:gd name="textAreaLeft" fmla="*/ 51480 w 1057320"/>
              <a:gd name="textAreaRight" fmla="*/ 1005840 w 1057320"/>
              <a:gd name="textAreaTop" fmla="*/ 51480 h 2619360"/>
              <a:gd name="textAreaBottom" fmla="*/ 2567880 h 2619360"/>
            </a:gdLst>
            <a:ahLst/>
            <a:rect l="textAreaLeft" t="textAreaTop" r="textAreaRight" b="textAreaBottom"/>
            <a:pathLst>
              <a:path w="21600" h="53500">
                <a:moveTo>
                  <a:pt x="3600" y="0"/>
                </a:moveTo>
                <a:arcTo wR="3600" hR="3600" stAng="16200000" swAng="-5400000"/>
                <a:lnTo>
                  <a:pt x="0" y="49900"/>
                </a:lnTo>
                <a:arcTo wR="3600" hR="3600" stAng="10800000" swAng="-5400000"/>
                <a:lnTo>
                  <a:pt x="18000" y="53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522c"/>
              </a:gs>
              <a:gs pos="100000">
                <a:srgbClr val="6e2514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/dev/mtd0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NAND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3" name=""/>
          <p:cNvSpPr/>
          <p:nvPr/>
        </p:nvSpPr>
        <p:spPr>
          <a:xfrm>
            <a:off x="514440" y="114480"/>
            <a:ext cx="80708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hitney Medium"/>
                <a:ea typeface="MS PGothic"/>
              </a:rPr>
              <a:t>Mount Options</a:t>
            </a:r>
            <a:endParaRPr b="0" lang="en-US" sz="4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4" name=""/>
          <p:cNvSpPr/>
          <p:nvPr/>
        </p:nvSpPr>
        <p:spPr>
          <a:xfrm>
            <a:off x="5243400" y="2079720"/>
            <a:ext cx="1009800" cy="2620800"/>
          </a:xfrm>
          <a:custGeom>
            <a:avLst/>
            <a:gdLst>
              <a:gd name="textAreaLeft" fmla="*/ 48960 w 1009800"/>
              <a:gd name="textAreaRight" fmla="*/ 960840 w 1009800"/>
              <a:gd name="textAreaTop" fmla="*/ 48960 h 2620800"/>
              <a:gd name="textAreaBottom" fmla="*/ 2571840 h 2620800"/>
            </a:gdLst>
            <a:ahLst/>
            <a:rect l="textAreaLeft" t="textAreaTop" r="textAreaRight" b="textAreaBottom"/>
            <a:pathLst>
              <a:path w="21600" h="56048">
                <a:moveTo>
                  <a:pt x="3600" y="0"/>
                </a:moveTo>
                <a:arcTo wR="3600" hR="3600" stAng="16200000" swAng="-5400000"/>
                <a:lnTo>
                  <a:pt x="0" y="52448"/>
                </a:lnTo>
                <a:arcTo wR="3600" hR="3600" stAng="10800000" swAng="-5400000"/>
                <a:lnTo>
                  <a:pt x="18000" y="560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a56ab"/>
              </a:gs>
              <a:gs pos="100000">
                <a:srgbClr val="133f55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/dev/mtd0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NOR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5" name=""/>
          <p:cNvSpPr/>
          <p:nvPr/>
        </p:nvSpPr>
        <p:spPr>
          <a:xfrm>
            <a:off x="3938760" y="2700360"/>
            <a:ext cx="799920" cy="1942920"/>
          </a:xfrm>
          <a:custGeom>
            <a:avLst/>
            <a:gdLst>
              <a:gd name="textAreaLeft" fmla="*/ 38880 w 799920"/>
              <a:gd name="textAreaRight" fmla="*/ 761040 w 799920"/>
              <a:gd name="textAreaTop" fmla="*/ 38880 h 1942920"/>
              <a:gd name="textAreaBottom" fmla="*/ 1904040 h 1942920"/>
            </a:gdLst>
            <a:ahLst/>
            <a:rect l="textAreaLeft" t="textAreaTop" r="textAreaRight" b="textAreaBottom"/>
            <a:pathLst>
              <a:path w="21600" h="52450">
                <a:moveTo>
                  <a:pt x="3600" y="0"/>
                </a:moveTo>
                <a:arcTo wR="3600" hR="3600" stAng="16200000" swAng="-5400000"/>
                <a:lnTo>
                  <a:pt x="0" y="48850"/>
                </a:lnTo>
                <a:arcTo wR="3600" hR="3600" stAng="10800000" swAng="-5400000"/>
                <a:lnTo>
                  <a:pt x="18000" y="52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6" name=""/>
          <p:cNvSpPr/>
          <p:nvPr/>
        </p:nvSpPr>
        <p:spPr>
          <a:xfrm>
            <a:off x="728640" y="2100240"/>
            <a:ext cx="1057320" cy="2629080"/>
          </a:xfrm>
          <a:custGeom>
            <a:avLst/>
            <a:gdLst>
              <a:gd name="textAreaLeft" fmla="*/ 51480 w 1057320"/>
              <a:gd name="textAreaRight" fmla="*/ 1005840 w 1057320"/>
              <a:gd name="textAreaTop" fmla="*/ 51480 h 2629080"/>
              <a:gd name="textAreaBottom" fmla="*/ 2577600 h 2629080"/>
            </a:gdLst>
            <a:ahLst/>
            <a:rect l="textAreaLeft" t="textAreaTop" r="textAreaRight" b="textAreaBottom"/>
            <a:pathLst>
              <a:path w="21600" h="53699">
                <a:moveTo>
                  <a:pt x="3600" y="0"/>
                </a:moveTo>
                <a:arcTo wR="3600" hR="3600" stAng="16200000" swAng="-5400000"/>
                <a:lnTo>
                  <a:pt x="0" y="50099"/>
                </a:lnTo>
                <a:arcTo wR="3600" hR="3600" stAng="10800000" swAng="-5400000"/>
                <a:lnTo>
                  <a:pt x="18000" y="536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522c"/>
              </a:gs>
              <a:gs pos="100000">
                <a:srgbClr val="6e2514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/dev/sda0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7" name=""/>
          <p:cNvSpPr/>
          <p:nvPr/>
        </p:nvSpPr>
        <p:spPr>
          <a:xfrm>
            <a:off x="861840" y="2700360"/>
            <a:ext cx="800280" cy="1942920"/>
          </a:xfrm>
          <a:custGeom>
            <a:avLst/>
            <a:gdLst>
              <a:gd name="textAreaLeft" fmla="*/ 38880 w 800280"/>
              <a:gd name="textAreaRight" fmla="*/ 761400 w 800280"/>
              <a:gd name="textAreaTop" fmla="*/ 38880 h 1942920"/>
              <a:gd name="textAreaBottom" fmla="*/ 1904040 h 1942920"/>
            </a:gdLst>
            <a:ahLst/>
            <a:rect l="textAreaLeft" t="textAreaTop" r="textAreaRight" b="textAreaBottom"/>
            <a:pathLst>
              <a:path w="21600" h="52427">
                <a:moveTo>
                  <a:pt x="3600" y="0"/>
                </a:moveTo>
                <a:arcTo wR="3600" hR="3600" stAng="16200000" swAng="-5400000"/>
                <a:lnTo>
                  <a:pt x="0" y="48827"/>
                </a:lnTo>
                <a:arcTo wR="3600" hR="3600" stAng="10800000" swAng="-5400000"/>
                <a:lnTo>
                  <a:pt x="18000" y="5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8" name=""/>
          <p:cNvSpPr/>
          <p:nvPr/>
        </p:nvSpPr>
        <p:spPr>
          <a:xfrm>
            <a:off x="2290680" y="2090880"/>
            <a:ext cx="1057320" cy="2647800"/>
          </a:xfrm>
          <a:custGeom>
            <a:avLst/>
            <a:gdLst>
              <a:gd name="textAreaLeft" fmla="*/ 51480 w 1057320"/>
              <a:gd name="textAreaRight" fmla="*/ 1005840 w 1057320"/>
              <a:gd name="textAreaTop" fmla="*/ 51480 h 2647800"/>
              <a:gd name="textAreaBottom" fmla="*/ 2596320 h 2647800"/>
            </a:gdLst>
            <a:ahLst/>
            <a:rect l="textAreaLeft" t="textAreaTop" r="textAreaRight" b="textAreaBottom"/>
            <a:pathLst>
              <a:path w="21600" h="54081">
                <a:moveTo>
                  <a:pt x="3600" y="0"/>
                </a:moveTo>
                <a:arcTo wR="3600" hR="3600" stAng="16200000" swAng="-5400000"/>
                <a:lnTo>
                  <a:pt x="0" y="50481"/>
                </a:lnTo>
                <a:arcTo wR="3600" hR="3600" stAng="10800000" swAng="-5400000"/>
                <a:lnTo>
                  <a:pt x="18000" y="540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522c"/>
              </a:gs>
              <a:gs pos="100000">
                <a:srgbClr val="6e2514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~/file.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-o loop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299" name=""/>
          <p:cNvSpPr/>
          <p:nvPr/>
        </p:nvSpPr>
        <p:spPr>
          <a:xfrm>
            <a:off x="2424240" y="2709720"/>
            <a:ext cx="799920" cy="1943280"/>
          </a:xfrm>
          <a:custGeom>
            <a:avLst/>
            <a:gdLst>
              <a:gd name="textAreaLeft" fmla="*/ 38880 w 799920"/>
              <a:gd name="textAreaRight" fmla="*/ 761040 w 799920"/>
              <a:gd name="textAreaTop" fmla="*/ 38880 h 1943280"/>
              <a:gd name="textAreaBottom" fmla="*/ 1904400 h 1943280"/>
            </a:gdLst>
            <a:ahLst/>
            <a:rect l="textAreaLeft" t="textAreaTop" r="textAreaRight" b="textAreaBottom"/>
            <a:pathLst>
              <a:path w="21600" h="52460">
                <a:moveTo>
                  <a:pt x="3600" y="0"/>
                </a:moveTo>
                <a:arcTo wR="3600" hR="3600" stAng="16200000" swAng="-5400000"/>
                <a:lnTo>
                  <a:pt x="0" y="48860"/>
                </a:lnTo>
                <a:arcTo wR="3600" hR="3600" stAng="10800000" swAng="-5400000"/>
                <a:lnTo>
                  <a:pt x="18000" y="5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300" name=""/>
          <p:cNvSpPr/>
          <p:nvPr/>
        </p:nvSpPr>
        <p:spPr>
          <a:xfrm>
            <a:off x="5348160" y="2671920"/>
            <a:ext cx="800280" cy="1942920"/>
          </a:xfrm>
          <a:custGeom>
            <a:avLst/>
            <a:gdLst>
              <a:gd name="textAreaLeft" fmla="*/ 38880 w 800280"/>
              <a:gd name="textAreaRight" fmla="*/ 761400 w 800280"/>
              <a:gd name="textAreaTop" fmla="*/ 38880 h 1942920"/>
              <a:gd name="textAreaBottom" fmla="*/ 1904040 h 1942920"/>
            </a:gdLst>
            <a:ahLst/>
            <a:rect l="textAreaLeft" t="textAreaTop" r="textAreaRight" b="textAreaBottom"/>
            <a:pathLst>
              <a:path w="21600" h="52427">
                <a:moveTo>
                  <a:pt x="3600" y="0"/>
                </a:moveTo>
                <a:arcTo wR="3600" hR="3600" stAng="16200000" swAng="-5400000"/>
                <a:lnTo>
                  <a:pt x="0" y="48827"/>
                </a:lnTo>
                <a:arcTo wR="3600" hR="3600" stAng="10800000" swAng="-5400000"/>
                <a:lnTo>
                  <a:pt x="18000" y="524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301" name=""/>
          <p:cNvSpPr/>
          <p:nvPr/>
        </p:nvSpPr>
        <p:spPr>
          <a:xfrm>
            <a:off x="6834240" y="2079720"/>
            <a:ext cx="1238040" cy="1954080"/>
          </a:xfrm>
          <a:custGeom>
            <a:avLst/>
            <a:gdLst>
              <a:gd name="textAreaLeft" fmla="*/ 60120 w 1238040"/>
              <a:gd name="textAreaRight" fmla="*/ 1177920 w 1238040"/>
              <a:gd name="textAreaTop" fmla="*/ 60120 h 1954080"/>
              <a:gd name="textAreaBottom" fmla="*/ 1893960 h 1954080"/>
            </a:gdLst>
            <a:ahLst/>
            <a:rect l="textAreaLeft" t="textAreaTop" r="textAreaRight" b="textAreaBottom"/>
            <a:pathLst>
              <a:path w="21600" h="34089">
                <a:moveTo>
                  <a:pt x="3600" y="0"/>
                </a:moveTo>
                <a:arcTo wR="3600" hR="3600" stAng="16200000" swAng="-5400000"/>
                <a:lnTo>
                  <a:pt x="0" y="30489"/>
                </a:lnTo>
                <a:arcTo wR="3600" hR="3600" stAng="10800000" swAng="-5400000"/>
                <a:lnTo>
                  <a:pt x="18000" y="340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a56ab"/>
              </a:gs>
              <a:gs pos="100000">
                <a:srgbClr val="133f55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/dev/mtd0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NOR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302" name=""/>
          <p:cNvSpPr/>
          <p:nvPr/>
        </p:nvSpPr>
        <p:spPr>
          <a:xfrm>
            <a:off x="6900840" y="2690640"/>
            <a:ext cx="1085760" cy="1219320"/>
          </a:xfrm>
          <a:custGeom>
            <a:avLst/>
            <a:gdLst>
              <a:gd name="textAreaLeft" fmla="*/ 52920 w 1085760"/>
              <a:gd name="textAreaRight" fmla="*/ 1032840 w 1085760"/>
              <a:gd name="textAreaTop" fmla="*/ 52920 h 1219320"/>
              <a:gd name="textAreaBottom" fmla="*/ 1166400 h 1219320"/>
            </a:gdLst>
            <a:ahLst/>
            <a:rect l="textAreaLeft" t="textAreaTop" r="textAreaRight" b="textAreaBottom"/>
            <a:pathLst>
              <a:path w="21600" h="24256">
                <a:moveTo>
                  <a:pt x="3600" y="0"/>
                </a:moveTo>
                <a:arcTo wR="3600" hR="3600" stAng="16200000" swAng="-5400000"/>
                <a:lnTo>
                  <a:pt x="0" y="20656"/>
                </a:lnTo>
                <a:arcTo wR="3600" hR="3600" stAng="10800000" swAng="-5400000"/>
                <a:lnTo>
                  <a:pt x="18000" y="24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 1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MMAP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0" y="4105440"/>
            <a:ext cx="1247760" cy="1962000"/>
          </a:xfrm>
          <a:custGeom>
            <a:avLst/>
            <a:gdLst>
              <a:gd name="textAreaLeft" fmla="*/ 60840 w 1247760"/>
              <a:gd name="textAreaRight" fmla="*/ 1186920 w 1247760"/>
              <a:gd name="textAreaTop" fmla="*/ 60840 h 1962000"/>
              <a:gd name="textAreaBottom" fmla="*/ 1901160 h 1962000"/>
            </a:gdLst>
            <a:ahLst/>
            <a:rect l="textAreaLeft" t="textAreaTop" r="textAreaRight" b="textAreaBottom"/>
            <a:pathLst>
              <a:path w="21600" h="33961">
                <a:moveTo>
                  <a:pt x="3600" y="0"/>
                </a:moveTo>
                <a:arcTo wR="3600" hR="3600" stAng="16200000" swAng="-5400000"/>
                <a:lnTo>
                  <a:pt x="0" y="30361"/>
                </a:lnTo>
                <a:arcTo wR="3600" hR="3600" stAng="10800000" swAng="-5400000"/>
                <a:lnTo>
                  <a:pt x="18000" y="339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0522c"/>
              </a:gs>
              <a:gs pos="100000">
                <a:srgbClr val="6e2514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/dev/mtd1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NAND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304" name=""/>
          <p:cNvSpPr/>
          <p:nvPr/>
        </p:nvSpPr>
        <p:spPr>
          <a:xfrm>
            <a:off x="6919920" y="4748040"/>
            <a:ext cx="1085760" cy="1219320"/>
          </a:xfrm>
          <a:custGeom>
            <a:avLst/>
            <a:gdLst>
              <a:gd name="textAreaLeft" fmla="*/ 52920 w 1085760"/>
              <a:gd name="textAreaRight" fmla="*/ 1032840 w 1085760"/>
              <a:gd name="textAreaTop" fmla="*/ 52920 h 1219320"/>
              <a:gd name="textAreaBottom" fmla="*/ 1166400 h 1219320"/>
            </a:gdLst>
            <a:ahLst/>
            <a:rect l="textAreaLeft" t="textAreaTop" r="textAreaRight" b="textAreaBottom"/>
            <a:pathLst>
              <a:path w="21600" h="24256">
                <a:moveTo>
                  <a:pt x="3600" y="0"/>
                </a:moveTo>
                <a:arcTo wR="3600" hR="3600" stAng="16200000" swAng="-5400000"/>
                <a:lnTo>
                  <a:pt x="0" y="20656"/>
                </a:lnTo>
                <a:arcTo wR="3600" hR="3600" stAng="10800000" swAng="-5400000"/>
                <a:lnTo>
                  <a:pt x="18000" y="24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8c00"/>
              </a:gs>
              <a:gs pos="100000">
                <a:srgbClr val="754000"/>
              </a:gs>
            </a:gsLst>
            <a:lin ang="10800000"/>
          </a:gradFill>
          <a:ln w="9360">
            <a:solidFill>
              <a:srgbClr val="c8c8c8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 anchorCtr="1">
            <a:noAutofit/>
          </a:bodyPr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XFS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 2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  <a:p>
            <a:pPr marL="225360" indent="-22536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(IO)</a:t>
            </a:r>
            <a:endParaRPr b="0" lang="en-US" sz="1400" spc="-1" strike="noStrike">
              <a:solidFill>
                <a:srgbClr val="000000"/>
              </a:solidFill>
              <a:latin typeface="Whitney Medium"/>
            </a:endParaRPr>
          </a:p>
        </p:txBody>
      </p:sp>
      <p:sp>
        <p:nvSpPr>
          <p:cNvPr id="305" name=""/>
          <p:cNvSpPr/>
          <p:nvPr/>
        </p:nvSpPr>
        <p:spPr>
          <a:xfrm>
            <a:off x="343080" y="1362240"/>
            <a:ext cx="8429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 anchorCtr="1">
            <a:sp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olas"/>
                <a:ea typeface="Arial"/>
              </a:rPr>
              <a:t>mount –t axfs –o block_dev=/dev/mtd1 /dev/mtd0 /mnt/axfs</a:t>
            </a:r>
            <a:endParaRPr b="0" lang="en-US" sz="2000" spc="-1" strike="noStrike">
              <a:solidFill>
                <a:srgbClr val="000000"/>
              </a:solidFill>
              <a:latin typeface="Whitney Medium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L -0.33854 -1.85185E-006 E">
                                      <p:cBhvr>
                                        <p:cTn id="73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 L -0.33958 0 E">
                                      <p:cBhvr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33438 3.33333E-006 E">
                                      <p:cBhvr>
                                        <p:cTn id="77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33438 0 E">
                                      <p:cBhvr>
                                        <p:cTn id="79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2:20:09Z</dcterms:created>
  <dc:creator/>
  <dc:description/>
  <dc:language>en-US</dc:language>
  <cp:lastModifiedBy>jatreon</cp:lastModifiedBy>
  <dcterms:modified xsi:type="dcterms:W3CDTF">2008-04-21T21:44:02Z</dcterms:modified>
  <cp:revision>479</cp:revision>
  <dc:subject>2008 Intel Investor Meeting</dc:subject>
  <dc:title>Otellini Keynote Highlights</dc:title>
</cp:coreProperties>
</file>